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750-778A-4A93-BB49-072017C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175-2321-4619-B9C9-2A124B7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1AE-3614-44CB-AAD2-718DFADD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2BC-BCF9-48F5-9CE8-BA54B214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C83F-E455-4183-A042-C59284B2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D802-451D-4976-9F85-E153545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5D19-2288-4A37-BC46-172E780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6797A-82C4-45D6-AF16-79D73CB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7874-67C9-4324-ADDE-5424C5C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39CE-3CBE-4F9B-BD8E-871CCAA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4CC3-E40E-4A83-8DFE-513304A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BD3-4761-4317-B62C-8F6E4F7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8BAA-B8F4-47B3-8D82-24F0E65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CBE66-9D0C-4D87-9605-33B9F23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B8ED-4763-4D6A-840A-C7029A2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A4CD4-AFF1-4EE3-A6D6-49024667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D5EF7-5B80-4162-8E34-483C8F0A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EF9-D47D-4A5D-B0A6-64FA50B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AE4-B3A9-41C1-A661-BB6259AE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2AE-90EC-4FB9-AA91-992ABFC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D95-AEAF-4BA3-A712-EADB53C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084-3E4A-42C8-BD0E-ABB6B12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04D-8F6F-49D7-8C74-AE6F2F1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303-E364-4CC6-BB8A-4225F94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50E6-7896-430E-AE6B-E3FFD7C44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8F1D-7AB8-4F97-951F-4ECACB15A0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.exdat.com/tw_files2/urls_13/5/d-4391/4391_html_55c9dbf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ская агрессия. Причины и последствия детской агр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Цыганкова Д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Лазеева А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3" descr="http://lib.exdat.com/tw_files2/urls_13/5/d-4391/4391_html_55c9dbf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205000"/>
            <a:ext cx="26017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вня агрессивности у ребе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ительный ответ на каждое предложенное утверждение оценивается в 1 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агрессивность – 15-20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няя агрессивность – 7-14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агрессивность – 1-6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Я-высказывание»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это прием и способ, с помощью которого взрослый сообщает ребенку о своих чувствах и отрицательных переживаниях, а не о ребёнке и его поведении, которое это переживание вызвало (в отличие от «Ты-высказываний). «Я-высказывание» всегда начинается с личных местоимений: я, мне, ме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зеленую зону</a:t>
            </a:r>
            <a:r>
              <a:rPr b="0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помещается то, что разрешается делать ребенку по его собственному усмотрению и желанию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желтой зо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ребенку предоставляется право действовать по собственному выбору, но в пределах определенных границ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e2702a"/>
                </a:solidFill>
                <a:latin typeface="Times New Roman"/>
                <a:ea typeface="Calibri"/>
              </a:rPr>
              <a:t>оранжевой зоне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 находятся такие действия ребенка, которые родителем уже не приветствуются, но ввиду особых обстоятельств допускаютс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К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ой зоне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относятся те действия ребенка, которые «не приемлемы ни при каких обстоятельств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говорное соглашение с ребен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52640"/>
          <a:ext cx="8229600" cy="54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одителей (правила, треб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ебенка (правила и требования для родителей) (мальчик 11 л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Делать уроки до 8 часов вече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Мыть за собой посу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Убирать за собой пос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употреблять ругательные выражения по отношению к младшей сест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уважительно с родителя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бить меня ремн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давать мне подзатыльн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меня обзывать (причем выражения со стороны родителей те же, что и ребенка по отношению к младшей сестре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кричать, а просто сказать, что от меня нуж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мне «спасибо», когда что-то делаю по просьбе родител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Замечать и хвалить, когда сам что-то сделал без просьбы родителей (купил хлеб, помыл за всеми посуду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 быть последовательными в своих действиях по отношению к де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ования, предъявляемые детям, должны быть разумны, а на их выполнении надо настаивать, ясно давая детям понять, чего от них жд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избегать неоправданного применения силы и угроз для контроля поведения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чь ребенку научиться владеть собой, развивать у него чувств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ть понять ребенку, что агрессивное поведение никогда не принесет выг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ребенка говорить о своих переживаниях, называть вещи своими именами: «я разозлился», «я обиделся», «я расстроил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обзывайте ребенка глупым, тупым и т.д. – он будет так же вести себя с други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больше будет агрессии с вашей стороны, тем больше враждебности зародится в душе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гда ребенку нужно просто понимание, и одно лишь ласковое слово способно снять его озло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рессивное поведение у детей - это своеобразный сигнал SOS, крик о помощи, о внимании к своему внутреннему миру, в котором накопилось слишком много разрушительных эмоций, с которыми ребёнок справиться не в сил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5280" y="47592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 обладает способностью люб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если он не может найти применения сво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ности любить, он способен ненавиде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являя агрессию и жестокость. Этим сред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руководствуется как бегством от собствен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шевной б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рих Фро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грессия – это поведение, которое причиняет вред предметам, человеку или группе люд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BABY8"/>
          <p:cNvPicPr/>
          <p:nvPr/>
        </p:nvPicPr>
        <p:blipFill>
          <a:blip r:embed="rId1"/>
          <a:stretch/>
        </p:blipFill>
        <p:spPr>
          <a:xfrm>
            <a:off x="5292720" y="3213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явления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изическая             верб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утоагре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ды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ментальная   вражд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4"/>
          <p:cNvCxnSpPr/>
          <p:nvPr/>
        </p:nvCxnSpPr>
        <p:spPr>
          <a:xfrm flipH="1">
            <a:off x="3058560" y="1052640"/>
            <a:ext cx="64980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>
            <a:off x="5651640" y="1052640"/>
            <a:ext cx="50544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2" name="Прямая со стрелкой 8"/>
          <p:cNvCxnSpPr/>
          <p:nvPr/>
        </p:nvCxnSpPr>
        <p:spPr>
          <a:xfrm flipH="1">
            <a:off x="4500360" y="1052280"/>
            <a:ext cx="72000" cy="1369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3419280" y="4508280"/>
            <a:ext cx="792720" cy="8658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>
            <a:off x="5076720" y="4508280"/>
            <a:ext cx="791280" cy="937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ды агр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3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нструментальная (проявляется человеком для достижения определенной ц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раждебная (направлена на то, чтобы причинить бол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5" descr="agr_03"/>
          <p:cNvPicPr/>
          <p:nvPr/>
        </p:nvPicPr>
        <p:blipFill>
          <a:blip r:embed="rId1"/>
          <a:stretch/>
        </p:blipFill>
        <p:spPr>
          <a:xfrm>
            <a:off x="6372360" y="4005360"/>
            <a:ext cx="2232000" cy="25668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жнение «Дикта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73339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е центральной нервной систем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 как средство психологической защи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нарушения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эмоциональных связей в семье как между родителями и ребенком, так и между самими родител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ажение к личности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рректная и нетактичная критика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мерный контрол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ое отсутствие контрол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ыток или недостаток внимания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ная исследовательская активность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и, когда за агрессивность принимают что - то другое. Например, детское упрямство (в возрасте 2-4 лет) - «не хочу», «не буду», «я сам»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 на физическую активность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 в праве на личную свобод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ознательное ожидание стра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нестабильность, колебания эмоц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обственной безопасности в семье, где частые ссор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льство собо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ви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терии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теряет контроль над соб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орит, ругается с взросл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отказывается выполнять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ециально раздражает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винит других в своих ошиб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ердится и отказывается сделать чт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завистлив, мстител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42:40Z</dcterms:created>
  <dc:creator> uzer</dc:creator>
  <dc:description/>
  <dc:language>en-US</dc:language>
  <cp:lastModifiedBy>User</cp:lastModifiedBy>
  <dcterms:modified xsi:type="dcterms:W3CDTF">2018-11-23T12:26:48Z</dcterms:modified>
  <cp:revision>30</cp:revision>
  <dc:subject/>
  <dc:title>Агрессивность детей </dc:title>
</cp:coreProperties>
</file>